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6648-EA48-4E0A-884B-D5B580D7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B787-F299-40ED-9F48-C354C01A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D3AB-F00C-45BC-A5AE-45DDC2C3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7394-909F-49B2-ABEC-5B30149C5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28FE-B59E-4AC5-9C61-E2CC1FAC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ABAA-E893-48EF-BDF8-D9B0C119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0B0E-09E5-4668-A100-23112E43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E068-F93D-4FB0-B37C-1B119526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51BE-6A0C-41B5-ADA9-A4A15A01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D893-1A42-42C3-A5A9-6CDB92A7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27FD-A88B-4219-97D6-6D9157D1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D900-90BF-4915-93C7-56355CC4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C958-C517-4FEA-BB8D-8D709CBFF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vian 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y Auc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’s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is known for its bitter winters . The country’s harsh climate helped stop      various invaders during its history, including the large armies of Napoleon in 1812 and Adolf Hit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6:44:53Z</dcterms:created>
  <dc:creator> </dc:creator>
  <dc:description/>
  <dc:language>en-US</dc:language>
  <cp:lastModifiedBy> </cp:lastModifiedBy>
  <dcterms:modified xsi:type="dcterms:W3CDTF">2010-12-14T17:02:14Z</dcterms:modified>
  <cp:revision>2</cp:revision>
  <dc:subject/>
  <dc:title>Climate</dc:title>
</cp:coreProperties>
</file>